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83855"/>
        <c:axId val="88920375"/>
      </c:barChart>
      <c:catAx>
        <c:axId val="61283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20375"/>
        <c:crosses val="autoZero"/>
        <c:auto val="1"/>
        <c:lblAlgn val="ctr"/>
        <c:lblOffset val="100"/>
        <c:noMultiLvlLbl val="0"/>
      </c:catAx>
      <c:valAx>
        <c:axId val="88920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83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C3C-ED55-4F83-809B-89499306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ADD-3656-461C-ACF3-6A2EA4C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D76-4396-4EDA-A8D3-76250F7F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4A5-7E06-41FD-9AA7-E5652D36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F41-2A3C-41D1-9E2F-C3EED748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89C-E3AE-4EC5-B481-036F5D4B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AD4-CC24-452F-B3EB-1AA17A3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BA6-C086-4CEE-B34B-E502FE5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657-756D-4295-8EB7-6F5DA8F4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90B-9B4B-4189-984D-B1DBEDFF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DC6-F2FE-4133-B8D4-1DF58D1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7C4-F409-45F3-81A6-75EB2AA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55600-D8E6-49B4-82D2-49186D8228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