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14409"/>
        <c:axId val="5267420"/>
      </c:barChart>
      <c:catAx>
        <c:axId val="43144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7420"/>
        <c:crosses val="autoZero"/>
        <c:auto val="1"/>
        <c:lblAlgn val="ctr"/>
        <c:lblOffset val="100"/>
        <c:noMultiLvlLbl val="0"/>
      </c:catAx>
      <c:valAx>
        <c:axId val="52674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144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DEE1-DB23-4D50-864A-25AA239F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B44D-41E2-44E7-BD2A-364F943B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C67F-E264-433F-851F-3FE32C7F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312E-D419-47F7-928C-51C3E714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669B-2D88-4DB7-A19B-941A79AC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E700-A49D-4756-8C35-0A689DAE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18A7-B492-482B-9119-ABA38EEC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238D-1E79-41DA-9503-6D398927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ACC8-FEF0-439D-B868-A6B6296C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557F-801D-491B-8BA7-722AFE3D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FE6D-4CC6-44F7-B750-76425540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C4C5-4429-469D-BBB0-DF3DB7E8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EF453-C497-42ED-8FAD-48E5E01407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