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98001"/>
        <c:axId val="81896608"/>
      </c:barChart>
      <c:catAx>
        <c:axId val="70998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96608"/>
        <c:crosses val="autoZero"/>
        <c:auto val="1"/>
        <c:lblAlgn val="ctr"/>
        <c:lblOffset val="100"/>
        <c:noMultiLvlLbl val="0"/>
      </c:catAx>
      <c:valAx>
        <c:axId val="81896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98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9EF-DD01-41E6-BEB1-5283AC5E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A0C-CBEA-4D46-A519-19A2BB05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58A-22FC-48F8-B842-3062D08E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F88-3A5B-4B56-84E9-5DADF44B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33C-C6E3-4EA1-B0C5-DCB1FBA4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F01-7273-475B-A39F-F040F638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BE9-D4A9-42CE-99A1-C46F44BC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FC5-78AD-4A65-B56E-4E954A73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359-681C-4EB1-BDF5-AC8892A6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C86-5AAB-49E6-BE0C-685ABBD3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58F-039C-4175-96F2-10FFA7A4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0CA-CBF0-447F-A110-E3C6FFBE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D8DF4-B721-4363-AEF9-3BC68E8A69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