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85179"/>
        <c:axId val="27411735"/>
      </c:barChart>
      <c:catAx>
        <c:axId val="67485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11735"/>
        <c:crosses val="autoZero"/>
        <c:auto val="1"/>
        <c:lblAlgn val="ctr"/>
        <c:lblOffset val="100"/>
        <c:noMultiLvlLbl val="0"/>
      </c:catAx>
      <c:valAx>
        <c:axId val="27411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85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898-E155-4C76-97B8-59A26702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F01-C2EE-42FA-9D80-0586D97B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617-2A67-4F4E-8BEE-EA3C2BC9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76C-667B-4C74-807E-096D7FAC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F6B-1633-4A00-9079-9226FD7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9C6-0894-48F7-A396-16DFC4D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C31-AFCE-40FB-ABC6-136049BD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50F-6873-42D8-A455-481445F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4DF-6EE3-4B93-99C6-BEC575AE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B3A-D846-4FD4-9CE4-45ABDA5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BF1-C596-41E2-A3E0-0F931B0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DD7-E02D-4578-AE2A-89637351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6D60A-6DD5-4409-8448-50EA922A7B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