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61549"/>
        <c:axId val="13992033"/>
      </c:barChart>
      <c:catAx>
        <c:axId val="45661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92033"/>
        <c:crosses val="autoZero"/>
        <c:auto val="1"/>
        <c:lblAlgn val="ctr"/>
        <c:lblOffset val="100"/>
        <c:noMultiLvlLbl val="0"/>
      </c:catAx>
      <c:valAx>
        <c:axId val="13992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61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D05-57F1-4E5B-A1F6-3109705D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5D1-4A4F-47A1-84A8-4BA0C18B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40D-879F-4B0C-A1BC-962D6E7B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408-5786-4F63-8464-8076147D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3F9-4569-4FD9-9960-36C8608B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E14-67E6-4936-A63C-5EE8B760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E3D-E471-4607-9650-BF0690CE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206-FB56-44BB-AF9E-507D3EB2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2CE-B3C3-4BE2-81EE-9884577D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155-EBBF-4304-87EE-D49A3B5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B00-6A0F-4E40-ABAB-AE5696A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C0E-D57B-44A4-86DB-34705DC1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50B6E-8B18-4F96-A3EF-41ED14621E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