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60552"/>
        <c:axId val="79318422"/>
      </c:barChart>
      <c:catAx>
        <c:axId val="23660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18422"/>
        <c:crosses val="autoZero"/>
        <c:auto val="1"/>
        <c:lblAlgn val="ctr"/>
        <c:lblOffset val="100"/>
        <c:noMultiLvlLbl val="0"/>
      </c:catAx>
      <c:valAx>
        <c:axId val="79318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60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98C-8AB4-4217-B36B-14EFEDB3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F99-907C-446A-8EF7-BCB89C90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E01-A3D3-4EDC-9507-329B07C5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4A1-EF4C-462C-A197-CBFD4C53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25D-CB78-4716-A17E-EBE04D36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160-89A1-40F4-8D2F-0724D370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FD8-4717-48CD-BBCF-39333692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F07-088B-4C97-AF9E-97F2D9F1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837-91A0-4BB4-8317-3AD7D230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ECD-96F9-4DBB-A8D7-5DBBA21F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F75-9582-4C0A-9427-5FAFCED8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067-6308-4FD9-9899-06F5C339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5A950-183A-48D2-9228-14AE17600E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