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07892"/>
        <c:axId val="3139312"/>
      </c:barChart>
      <c:catAx>
        <c:axId val="599078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39312"/>
        <c:crosses val="autoZero"/>
        <c:auto val="1"/>
        <c:lblAlgn val="ctr"/>
        <c:lblOffset val="100"/>
        <c:noMultiLvlLbl val="0"/>
      </c:catAx>
      <c:valAx>
        <c:axId val="3139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078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5D9A-0224-44D1-8D11-BE61CD26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AC7-D784-406A-BCE1-10595072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138-508E-48CA-B4AC-6FFC2EAB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BC9-29C7-4A7F-8AD7-ED65435C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C69-FB8F-4B69-B4DD-AC0FDF76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DD0-A3D9-47DF-A62F-ABE01BCF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C15-4A42-4D3A-9018-9D3C8E47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121B-B652-4CF1-8F9B-318B8EE0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27D-FBBF-456C-9759-79B1E532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040-FB69-4ED9-A1DA-7E076A91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694-BB76-4D91-BC4F-9995E1E0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D1A-9710-4E2A-88BA-850E2A84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399A5-81D2-4522-A254-FE0CBE4F18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