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90285"/>
        <c:axId val="99390065"/>
      </c:barChart>
      <c:catAx>
        <c:axId val="23490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90065"/>
        <c:crosses val="autoZero"/>
        <c:auto val="1"/>
        <c:lblAlgn val="ctr"/>
        <c:lblOffset val="100"/>
        <c:noMultiLvlLbl val="0"/>
      </c:catAx>
      <c:valAx>
        <c:axId val="99390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90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46A-E7D2-43BF-BC06-35556554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793-3738-4670-8DFF-E8D4A5AA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047-0310-4ADB-B331-F78D881C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02B-70B5-4D31-9CE8-DA74C351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EAF-5242-4E62-B927-BFD93357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688-831B-4E61-B679-12CC759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9C4-4BE4-4C84-9A5B-021BBF0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FE7-CCA9-452C-A945-B5B57CE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3C9-8DDF-4C8F-A603-CC751C3A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C17-9E4E-4241-AE7D-AA10449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407-A1AA-444D-8CB9-085B9C1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44D-83C0-4E0D-AA5D-2B151C7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CF4B7-DDB7-4D93-A425-02F678475D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