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79617"/>
        <c:axId val="42906205"/>
      </c:barChart>
      <c:catAx>
        <c:axId val="92979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06205"/>
        <c:crosses val="autoZero"/>
        <c:auto val="1"/>
        <c:lblAlgn val="ctr"/>
        <c:lblOffset val="100"/>
        <c:noMultiLvlLbl val="0"/>
      </c:catAx>
      <c:valAx>
        <c:axId val="42906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79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249-DABA-4ED8-B598-57283342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A4F-8172-41B8-B469-6331F960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BC1-1835-4B33-82DA-60DE427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AFF-3E43-4ABD-AFC8-F4369DDC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4FE-6506-4C2C-BD8A-8BC34F1E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83F-9919-452C-B5C8-2C3FDC4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AB1-B8F5-4A5D-97AF-9A5A57C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86C-5FDF-4967-BF52-9EF85C7A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FC2-9359-424A-81BC-B9F971E6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021-0623-43FC-8607-D8E9CE5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454-2F3E-4737-B64E-6E3A96D0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EE7-949F-4D9E-9384-6996C71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3572A-EAF4-4905-AFD5-490C59BD74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