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502"/>
        <c:axId val="98055341"/>
      </c:barChart>
      <c:catAx>
        <c:axId val="211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55341"/>
        <c:crosses val="autoZero"/>
        <c:auto val="1"/>
        <c:lblAlgn val="ctr"/>
        <c:lblOffset val="100"/>
        <c:noMultiLvlLbl val="0"/>
      </c:catAx>
      <c:valAx>
        <c:axId val="98055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0DF-779E-44F3-A52D-2AAA964E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94C-4439-46D9-B070-66B76983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979-1249-4891-9016-C7A92DEB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1EA-1AEC-4D1B-9678-8F1C2732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4ED-1BAA-4587-B311-6A80E989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395-85EB-439D-8CD3-09213B0B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C9F-3E2B-453B-963F-DD706216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37B-F1CF-488D-A557-9FE691CD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E62-4986-402F-A042-3BDECA15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DB6-2DB9-4B61-97B8-85649968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50F-32DD-4C70-90FB-C1F97545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2D0-C668-483B-BEB4-0D7D0B03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AE9F0-49B2-4D3B-84A4-0AB52082D8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