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21009"/>
        <c:axId val="39131332"/>
      </c:barChart>
      <c:catAx>
        <c:axId val="87221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31332"/>
        <c:crosses val="autoZero"/>
        <c:auto val="1"/>
        <c:lblAlgn val="ctr"/>
        <c:lblOffset val="100"/>
        <c:noMultiLvlLbl val="0"/>
      </c:catAx>
      <c:valAx>
        <c:axId val="39131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21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DA2-E6F1-4575-B7F2-343BE664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FC3-BF86-4711-BDDE-6D428F75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B61-F632-4159-8AB8-51921E93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D72-7738-4D93-B331-B1DDF75C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E0E-882F-43DD-9001-905A3FB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BB4-FAF5-4B50-8916-344EDB22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883-99FB-4E29-A633-2453D609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25A-D814-4E39-B9C2-BAC1E38F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FDF-B131-4434-B812-AB93D36B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E20-50E8-48B2-8FDC-2331A985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734-9E3A-4BBA-9DBD-DF1975A4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617-2D95-4A8C-B81E-AD80F6D2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8227D-3924-488D-AA27-CE5E2C9B14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