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6842"/>
        <c:axId val="71232894"/>
      </c:barChart>
      <c:catAx>
        <c:axId val="86826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32894"/>
        <c:crosses val="autoZero"/>
        <c:auto val="1"/>
        <c:lblAlgn val="ctr"/>
        <c:lblOffset val="100"/>
        <c:noMultiLvlLbl val="0"/>
      </c:catAx>
      <c:valAx>
        <c:axId val="7123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6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3BF-3168-423E-8288-8F0D3DA7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4D9-2AE1-49AD-A267-2F87D84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C53-8BEF-42BC-8056-461B6C2C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918-BCAA-464F-8FEB-FB68DEC3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D7F-ED7C-4F82-B4A2-B46AC084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06E-838F-4048-8AC8-E1C4B79D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771-369C-4839-A045-352E750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C64-F225-4EA4-B5A5-450A340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27D-35E8-4A0A-9105-3759FA7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78E-93A2-4A3F-ABD6-5F12297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B8B-8A51-4B47-93F4-05E3EA0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5E6-D58C-4139-A3DD-B89BBE9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C705E-9BD6-4ADC-9F10-DC9331281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