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6570"/>
        <c:axId val="36549825"/>
      </c:barChart>
      <c:catAx>
        <c:axId val="1916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9825"/>
        <c:crosses val="autoZero"/>
        <c:auto val="1"/>
        <c:lblAlgn val="ctr"/>
        <c:lblOffset val="100"/>
        <c:noMultiLvlLbl val="0"/>
      </c:catAx>
      <c:valAx>
        <c:axId val="36549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6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CD5-350F-497F-8953-3159B5A9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794-BDAF-44BD-B712-57B2C03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C10-8FFF-400E-9B7F-F2388E20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1C7-1F52-477D-8F54-84FD883B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9E7-2247-40E8-81F3-2791860F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AA0-F1D2-4D35-B6C7-1CC07ED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6A7-C0B5-4CB5-88B7-8FF655BC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38F-AC90-418F-9847-A10073F9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90E-19F2-4F34-B252-5BBED63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196-2CC8-4968-8B2E-7F250AB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856-AF93-463F-A286-B3697C6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A39-F1E6-432E-B9DD-7B0C871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BBD80-C02E-4642-8D32-3EDE91F878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