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97698"/>
        <c:axId val="74798113"/>
      </c:barChart>
      <c:catAx>
        <c:axId val="79997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98113"/>
        <c:crosses val="autoZero"/>
        <c:auto val="1"/>
        <c:lblAlgn val="ctr"/>
        <c:lblOffset val="100"/>
        <c:noMultiLvlLbl val="0"/>
      </c:catAx>
      <c:valAx>
        <c:axId val="74798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97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E6E-36BD-4ED8-813B-391EDBFA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035-7A8A-40E5-B1B0-A3A00BE9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C0C-AEFB-4E89-B9B6-F680D936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7AF-CBDD-4FDE-9414-5707BECB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8CF-959D-4AFD-8C35-496B76E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B50-7B28-48E1-A659-DCFB2102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269-3290-495B-A9D4-CCCB8740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C24-3155-4F56-B55E-B74B8205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39A-8394-4105-9207-5ADAD739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6D0-D939-4FE1-AABE-478F267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75E-BB82-4987-8139-63F221D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8FB-ECCB-48CD-8D75-E93D08FA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A93F8-D2E7-4D00-B38C-B6FD4F8FC1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