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57743"/>
        <c:axId val="50370011"/>
      </c:barChart>
      <c:catAx>
        <c:axId val="26257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70011"/>
        <c:crosses val="autoZero"/>
        <c:auto val="1"/>
        <c:lblAlgn val="ctr"/>
        <c:lblOffset val="100"/>
        <c:noMultiLvlLbl val="0"/>
      </c:catAx>
      <c:valAx>
        <c:axId val="50370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57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788-BA7E-4AFB-9664-A44D39E9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ED4-0F61-43DD-AF51-87594D6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E66-B23F-4AA1-A346-3D4E71A6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434-2D8E-43D2-88ED-7D453988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942-43EF-4265-9151-44F0570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E88-D234-4223-AF8E-EE2CCFD8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F12-D813-4F4E-A0EA-B37B52B0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DDF-627C-4ECB-A31F-EC49E9D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94A-14FD-4128-A8F1-8BE88E18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131-10D0-4778-AE95-9B59815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241-768D-465F-801F-928E3ADB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BD2-A7C9-424F-A650-A40BAF26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52836-4B58-4A2E-B9A8-E3C4469CBD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