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34946"/>
        <c:axId val="49186303"/>
      </c:barChart>
      <c:catAx>
        <c:axId val="84634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86303"/>
        <c:crosses val="autoZero"/>
        <c:auto val="1"/>
        <c:lblAlgn val="ctr"/>
        <c:lblOffset val="100"/>
        <c:noMultiLvlLbl val="0"/>
      </c:catAx>
      <c:valAx>
        <c:axId val="49186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34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33D-1C11-4D55-91FD-0D2C776E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864-79BF-4419-BE79-D1D53094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CB8-B357-41D0-B677-483E4CEC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BEF-DEF4-4159-B4A4-1ABFEA6E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90B-CB4B-476F-97AC-7F6EC22F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9A4-D587-48E4-9960-4F83FC3F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399-D11B-4B45-B2A8-F127AA37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E21-3735-4A9F-8CA2-AD119C5B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3FD-B72B-4764-B8D3-BE769D4F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7CC-9630-442D-BB4B-39E28C4A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1A1-47DF-4B58-B20E-A0E7EC63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7E4-D52C-416B-B4C0-170D5B9A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73C49-DF58-4117-B912-FD58326FA8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