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5366"/>
        <c:axId val="67619058"/>
      </c:barChart>
      <c:catAx>
        <c:axId val="1625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19058"/>
        <c:crosses val="autoZero"/>
        <c:auto val="1"/>
        <c:lblAlgn val="ctr"/>
        <c:lblOffset val="100"/>
        <c:noMultiLvlLbl val="0"/>
      </c:catAx>
      <c:valAx>
        <c:axId val="67619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5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44F-5A58-4C12-8A55-AC4AB418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6B5-69D1-412A-83F9-A699664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694-D577-4213-8123-127BD0BB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656-E535-4558-8FA7-9F127DA5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7CB-997A-4E1B-B587-335942C1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D24-6C0D-48D5-BCCF-BEF7C48C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CCB-1C59-4942-A8CB-2E2C787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8B3-355E-4459-9FF8-9F60981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5D-A0EA-48F0-964E-38B942EF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160-ADF0-4CD6-8D43-89FFF35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3C2-53C5-4995-BBEF-3D7CC26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88A-9EFE-4249-9ECD-562FE89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01624-2E68-4AAB-B00B-D02F9E985E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