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66314"/>
        <c:axId val="83903967"/>
      </c:barChart>
      <c:catAx>
        <c:axId val="96666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03967"/>
        <c:crosses val="autoZero"/>
        <c:auto val="1"/>
        <c:lblAlgn val="ctr"/>
        <c:lblOffset val="100"/>
        <c:noMultiLvlLbl val="0"/>
      </c:catAx>
      <c:valAx>
        <c:axId val="83903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66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1F8-7DCA-45B6-8E31-EA34CF96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546-66D0-43BE-B55E-EA94D256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909-4D24-4947-A951-609A43B1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22C-E338-44E1-B5D3-410C8776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B7B-248B-4A27-893D-A833DB76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794-4A29-4636-85B2-92059D68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BA5-81A6-47AF-9F0A-DAB311E0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8D4-D246-4A36-A1EE-A45D9A50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6A7-4F6C-4506-A6B0-908C7C2C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BB6-8189-4E01-BB71-C3D2E693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308-855E-48FA-B037-EE7C9EBA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B83-254B-4FAE-AD86-24DE7350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756EF-C129-459E-A312-87CF1D583E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