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20947"/>
        <c:axId val="32063744"/>
      </c:barChart>
      <c:catAx>
        <c:axId val="61120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3744"/>
        <c:crosses val="autoZero"/>
        <c:auto val="1"/>
        <c:lblAlgn val="ctr"/>
        <c:lblOffset val="100"/>
        <c:noMultiLvlLbl val="0"/>
      </c:catAx>
      <c:valAx>
        <c:axId val="32063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0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D18-0ADF-4E28-97CD-4098D106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F11-3DCF-4363-8BB0-CE2283F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DDA-A643-4712-93BC-EB887EED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51F-791C-4307-9F47-49004276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E1A-8F75-46E9-B1DE-7D05011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A2D-7F75-4F92-AB59-243C4D9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1BD-9864-47EE-8C39-9C3F126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002-E678-40EC-A9E1-240B822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231-D33C-4995-B315-16BE26A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8C4-74E5-4901-87A6-A959B7E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0DC-11B7-45D8-978B-3E5D5C8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2A3-366F-4EE3-A2F2-FA4D92D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E8E65-461E-45BB-BE0B-D3B7FBBAE6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