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131898"/>
        <c:axId val="41265901"/>
      </c:barChart>
      <c:catAx>
        <c:axId val="96131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65901"/>
        <c:crosses val="autoZero"/>
        <c:auto val="1"/>
        <c:lblAlgn val="ctr"/>
        <c:lblOffset val="100"/>
        <c:noMultiLvlLbl val="0"/>
      </c:catAx>
      <c:valAx>
        <c:axId val="41265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31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12F6-91ED-40FB-9C7B-6FF13631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AEA-A1F7-4CAF-AF0E-505A8C1A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85D9-B223-4A2B-9C1B-FB305825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70F-3A37-46A2-B786-325F0DAB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E34A-5C2D-40E9-BC8F-38B38671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74B-8CDC-4DF2-A65A-1D3CCE0B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C0A6-A9DD-4FA9-B6AA-9C2A581D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34E1-B53C-4A5A-B869-5D419059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381D-50FD-4DD4-9690-C804B218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406E-888B-46BA-8BA0-31E4C7E1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685A-3120-4528-A5F3-7CB444F0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702E-4DE8-4789-BBD2-112DC1EB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4DDFE-221B-4089-A62B-AFB092475F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