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67337"/>
        <c:axId val="44500396"/>
      </c:barChart>
      <c:catAx>
        <c:axId val="81267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00396"/>
        <c:crosses val="autoZero"/>
        <c:auto val="1"/>
        <c:lblAlgn val="ctr"/>
        <c:lblOffset val="100"/>
        <c:noMultiLvlLbl val="0"/>
      </c:catAx>
      <c:valAx>
        <c:axId val="44500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7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97A-6D38-471F-868F-919C7D10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082-9914-4E8E-BA30-50E944C9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BB9-C247-4939-9D0A-CB0A6EC7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CC2-470D-4399-A69B-20C8894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A02-2C4B-40CE-B58E-92BB537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558-1E70-4DAF-8CB7-D5A643D1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5A0-99E4-41CE-8F5D-EC83A8F3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8F0-C9EA-436D-B1E0-A3ADF180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64-6F83-41F6-9AFF-1670E21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E40-664C-4820-804A-C45B25C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C89-E135-4771-9C30-772EFBF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BE2-77E5-4534-8C88-50CDAEA3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09C0D-8C15-4761-8ED9-C8E7DA05E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