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17169"/>
        <c:axId val="33165386"/>
      </c:barChart>
      <c:catAx>
        <c:axId val="36617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65386"/>
        <c:crosses val="autoZero"/>
        <c:auto val="1"/>
        <c:lblAlgn val="ctr"/>
        <c:lblOffset val="100"/>
        <c:noMultiLvlLbl val="0"/>
      </c:catAx>
      <c:valAx>
        <c:axId val="33165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17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720-7666-40A9-BA44-0B6F8A7B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4D2-BF55-45B6-BD86-2691922F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DEC-2F62-4D34-ACAD-FF02A70C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387-9193-4B3D-979E-1C53BF8D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9C9-73CC-4E62-A839-61B60405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6F8-BDC0-4C78-A04C-79C77DCE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181-6589-41B7-8CF8-FE0A9401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A74-DC8D-48E0-BB37-E5DD1D80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AEA-20F5-4047-ABCC-08DEDC65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86F-9320-431C-AE4F-A3B4EE1F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743-A952-4536-A9BF-F09A4F74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1D0-FE9A-4C59-93C7-782B3BFB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FE639-2554-47A2-BC85-A4E24AE54C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