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38279"/>
        <c:axId val="75431362"/>
      </c:barChart>
      <c:catAx>
        <c:axId val="65238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31362"/>
        <c:crosses val="autoZero"/>
        <c:auto val="1"/>
        <c:lblAlgn val="ctr"/>
        <c:lblOffset val="100"/>
        <c:noMultiLvlLbl val="0"/>
      </c:catAx>
      <c:valAx>
        <c:axId val="75431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38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531-CDCF-4B94-B0C7-3BF496BA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5A5-F3ED-4D03-846C-0E4FF13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97D-D1A8-4DEB-BA40-9E7C4F7B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F66-5D3E-4DA5-A946-8B77E2E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EF4-4526-4E27-83B0-06B97B6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B66-6FA7-4D0B-B84A-B790EEB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C22-889F-49F5-B2CA-1FDB2DE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157-F79C-4F77-BBC2-1D654E4E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28B-8876-4C3E-8BE2-28762DF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3E6-F84D-4FA8-9A87-827E05C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92E-5672-4C2A-AE57-BD3A44F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4A8-C86C-4788-A12D-E34A4E16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E39A-555A-4432-A10A-6317DD96DB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