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3319"/>
        <c:axId val="30217691"/>
      </c:barChart>
      <c:catAx>
        <c:axId val="84333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17691"/>
        <c:crosses val="autoZero"/>
        <c:auto val="1"/>
        <c:lblAlgn val="ctr"/>
        <c:lblOffset val="100"/>
        <c:noMultiLvlLbl val="0"/>
      </c:catAx>
      <c:valAx>
        <c:axId val="302176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33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44CD-341E-48B9-BCD8-6A75D247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BEE7-3E0A-4DDD-82A0-E3196A67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0DE3-232F-4BC2-B3DF-992F4FC6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7571-E7AD-427E-9C4C-24475E6D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F6D-A485-4B00-9346-DBBC7FD5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9D5B-2682-40EB-9162-BE47F8E1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B28-2829-4CB9-BB82-F14E97D2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87E2-68E6-4559-A160-C0C38FAA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42C6-6006-4EEC-947B-42E47EF1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1BC3-A0C0-4703-B0D8-6A615B6B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E68-33BA-4EFE-A6ED-AD1B58EB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4147-4101-4764-B994-A49AA7A1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B4213-871E-4EBA-BB3C-58952A4C6E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