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52063"/>
        <c:axId val="51224453"/>
      </c:barChart>
      <c:catAx>
        <c:axId val="64552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4453"/>
        <c:crosses val="autoZero"/>
        <c:auto val="1"/>
        <c:lblAlgn val="ctr"/>
        <c:lblOffset val="100"/>
        <c:noMultiLvlLbl val="0"/>
      </c:catAx>
      <c:valAx>
        <c:axId val="51224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52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52A-2CC4-43D0-B70B-2E2E3985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554-B2A1-4235-93E0-CCCBE2C4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046-F652-465C-A414-BA9FE17C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3C1-61AD-4815-839F-2692689B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B30-BD48-4BCD-B2AE-EC12A1E0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DAC-6DC6-4A27-8048-692102CA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806-F0D1-4512-9C7B-F7D19D58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7C8-1C36-4F36-B6AB-0051F37D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2BC-02A0-4A62-B7A8-6E7AA2B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C55-6115-459F-AF7A-8E55311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550-0DAD-4ED6-BF28-7BFA03E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780-C14B-41CD-872D-C42206D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6D3F8-10E6-427C-AE7A-CFDE09A919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