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28017"/>
        <c:axId val="37809291"/>
      </c:barChart>
      <c:catAx>
        <c:axId val="15528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09291"/>
        <c:crosses val="autoZero"/>
        <c:auto val="1"/>
        <c:lblAlgn val="ctr"/>
        <c:lblOffset val="100"/>
        <c:noMultiLvlLbl val="0"/>
      </c:catAx>
      <c:valAx>
        <c:axId val="37809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8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F85-8EE6-4C6B-A6A2-1C9854EA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D9E-DEE9-4001-9123-67741B5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BE3-13E9-4B94-827F-9108BC4D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05F-2D7E-44B1-A6C2-BE159698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639-4733-40E6-A187-195B1AA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ECC-629C-4015-B1D0-2B00AF4A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33A-8CAE-4C36-B134-2FE5BA98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D07-B6F9-4D68-9C32-C213249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994-F304-4810-B613-9D4B583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067-8AAD-4459-863F-564E814E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BCA-3D1C-4164-B490-0098E1C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D40-8692-4D63-9DE4-D76BE1B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ABE46-B540-42CF-87B8-0157478A6D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