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73614"/>
        <c:axId val="2259947"/>
      </c:barChart>
      <c:catAx>
        <c:axId val="24673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9947"/>
        <c:crosses val="autoZero"/>
        <c:auto val="1"/>
        <c:lblAlgn val="ctr"/>
        <c:lblOffset val="100"/>
        <c:noMultiLvlLbl val="0"/>
      </c:catAx>
      <c:valAx>
        <c:axId val="2259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73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532-EA42-4E98-B9B7-9796C04A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60C-6365-417D-9990-5B16C351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86F-77B7-4902-9C68-1F3C142E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F7D-AD10-4A11-BF8C-5B817C7E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A4F-F430-4574-A6C1-849AE751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680-97D0-45D8-A234-E2DCFF34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73B-EEED-4433-8FB6-E17CCAEB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BE6-24A1-4829-B86E-1BA144CF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BD8-F3DE-4580-AE12-5BF11E22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F30-CBEB-48BF-B6EC-56A333F9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FE4-A198-4E49-B0B7-F6C8058C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FCA-3128-4744-91CE-A6635DEE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EB4B3-788F-4C36-8714-A3D020518B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