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391673"/>
        <c:axId val="21726092"/>
      </c:barChart>
      <c:catAx>
        <c:axId val="803916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26092"/>
        <c:crosses val="autoZero"/>
        <c:auto val="1"/>
        <c:lblAlgn val="ctr"/>
        <c:lblOffset val="100"/>
        <c:noMultiLvlLbl val="0"/>
      </c:catAx>
      <c:valAx>
        <c:axId val="217260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916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A87F-DC66-44C5-BF4C-9FAF8A72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9F20-3E17-48E8-AE3A-A5579783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F97E-859F-4BB8-9D10-AFC5AEDAB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0F0C-3473-41F3-B31F-8A471A5D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3A06-CD82-4CB5-B2A0-1D549CDB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85D7-25AC-4DB1-9F84-56CD97C9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51C3-642A-4168-A024-33275CD0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82FC-E3C7-4176-9D29-55659281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6D39-3CF2-4513-AE7F-A0ED68BA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358F-DF91-4777-8311-1371746C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D98F-A6BF-4FE4-B3A3-C1058232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93D0-F22F-4A97-9AC1-99003EA0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1D54D-C166-4AFB-86FB-6B43019F2E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