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24455"/>
        <c:axId val="44648401"/>
      </c:barChart>
      <c:catAx>
        <c:axId val="91324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48401"/>
        <c:crosses val="autoZero"/>
        <c:auto val="1"/>
        <c:lblAlgn val="ctr"/>
        <c:lblOffset val="100"/>
        <c:noMultiLvlLbl val="0"/>
      </c:catAx>
      <c:valAx>
        <c:axId val="44648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24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72F-563B-4069-9588-4F83DA57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C5D1-D82B-45C6-A5EE-3B271F8B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FA6-AA34-4EB0-B92B-FD33EFBF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F8B-D12F-452E-BC9E-BD2EF7A8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37C-3B11-4A34-A753-23B0BEDE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6548-FC49-48EC-ACB4-9C253C12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205-86C1-4B62-807C-404DE908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DC5C-745F-4905-8D85-471782E6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456-3BDC-4677-AC08-FF17F39A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F188-134E-40AE-9C4C-1CF82212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BE0-9CE1-4FD2-8A09-8CD45B33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B62-9272-4D90-A87B-E363721E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0EB66-638A-4216-B7E9-81560D9D7E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