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38286"/>
        <c:axId val="34072605"/>
      </c:barChart>
      <c:catAx>
        <c:axId val="651382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72605"/>
        <c:crosses val="autoZero"/>
        <c:auto val="1"/>
        <c:lblAlgn val="ctr"/>
        <c:lblOffset val="100"/>
        <c:noMultiLvlLbl val="0"/>
      </c:catAx>
      <c:valAx>
        <c:axId val="340726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382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F57A-4E35-4789-A52E-539162DD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4BF1-B55E-40F8-9D1F-E640AB9A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69DF-2B77-4C6A-9569-591B4D11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75CA-C9A2-4A4B-8D38-77C9E995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35A2-5096-479B-A4EB-90996996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DAB4-5CAF-4C4C-8C5E-00AB6342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8D10-F4B8-442C-AD23-70C09F44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1E26-1129-4149-B944-DA43ECBB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7BE5-1730-4105-B51B-CCD545D1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3FC4-AB55-4CD7-BC09-4EDB2371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013A-EC0D-4843-9747-B771DB19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A201-CA4C-4339-9171-0E24C7E0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48075-E734-4BD9-8EC2-CBD86E0C9D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