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52468"/>
        <c:axId val="97563049"/>
      </c:barChart>
      <c:catAx>
        <c:axId val="64052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63049"/>
        <c:crosses val="autoZero"/>
        <c:auto val="1"/>
        <c:lblAlgn val="ctr"/>
        <c:lblOffset val="100"/>
        <c:noMultiLvlLbl val="0"/>
      </c:catAx>
      <c:valAx>
        <c:axId val="97563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52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1DC-5235-4B35-9878-3012F562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96E-0F91-415B-8220-9B8F7222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8CC-F475-48D9-9C20-5FE9A9C7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A92-114D-4D45-9020-214D0001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67C-48F2-49A4-84C0-28D22EEB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0A2-51A1-464E-A531-1EBA6587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76F-1070-49FC-BC33-9534B7EE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D28-40D9-41A8-ABEE-6DAB0C3A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940-3419-46C7-8E13-8EDB9C31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BDC-BDA7-431E-B6F7-6161187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03F-97E9-46C2-817A-84087A6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96C-A0E3-4556-9A61-BF693F5B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7DCCA-0926-4F17-A54F-00D59305A0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