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06630"/>
        <c:axId val="11026122"/>
      </c:barChart>
      <c:catAx>
        <c:axId val="79706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26122"/>
        <c:crosses val="autoZero"/>
        <c:auto val="1"/>
        <c:lblAlgn val="ctr"/>
        <c:lblOffset val="100"/>
        <c:noMultiLvlLbl val="0"/>
      </c:catAx>
      <c:valAx>
        <c:axId val="11026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06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C4D-99DF-4587-9207-2C2279C1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C9D-A0A1-4DB2-891B-5680EA33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A0D2-379F-4FAD-94F1-0038729F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374-6CAB-448B-B48E-5EB6B377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486-4FF6-4A0A-832F-64DB1D70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36C-54CC-4510-80E0-27586379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1B0-A011-4D4C-ADD0-8F1AE99D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5A3-CD9E-476C-AECB-2E27D771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F5E-398E-4C57-86E2-AC407EDA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06D-B824-4000-B79B-30DC9AA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AB3-F616-4401-9B9B-1B3A38D1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90D-9813-41D8-A372-7D29EE3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79952-33D1-47FF-81A2-53CBD3B6A7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