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97756"/>
        <c:axId val="29087993"/>
      </c:barChart>
      <c:catAx>
        <c:axId val="29297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87993"/>
        <c:crosses val="autoZero"/>
        <c:auto val="1"/>
        <c:lblAlgn val="ctr"/>
        <c:lblOffset val="100"/>
        <c:noMultiLvlLbl val="0"/>
      </c:catAx>
      <c:valAx>
        <c:axId val="29087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97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EAC-87EA-4B8E-8D87-E2307FE6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0D4-6E90-424D-B0B1-572675AE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3E0-65E1-4718-B278-9D0FB20C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7D5-3F27-4EE7-9219-869F010F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B7C1-0E06-4103-9E4D-53FD7A75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584-4F84-4CB0-BF4B-46B6C1C9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2F9-7FC9-48C3-A669-6C3C7B0C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88B-D3A8-47F7-AE17-DB8B9E0F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87D-3A7D-44D7-9389-0076CD50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92A-1BA0-48B2-B384-13084284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828-A3AC-4B97-AAF8-B5EAEB3D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CD8-AD02-4C80-AD8C-19E92B2B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CCF65-E667-4EF4-B8A7-F33B9CE1F3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