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2612"/>
        <c:axId val="17616132"/>
      </c:barChart>
      <c:catAx>
        <c:axId val="13072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16132"/>
        <c:crosses val="autoZero"/>
        <c:auto val="1"/>
        <c:lblAlgn val="ctr"/>
        <c:lblOffset val="100"/>
        <c:noMultiLvlLbl val="0"/>
      </c:catAx>
      <c:valAx>
        <c:axId val="17616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2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9D3-1EF3-4FF5-8490-296DEAA9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E4D-7965-406D-A824-A025D47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82A-4AF2-4C60-BB7F-B5DE68FD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114-27C6-4A32-97C4-39F48AFE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621-2192-4076-8D71-BFE8EF63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451-917B-49C9-A11D-2B1455B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36F-12AC-43AF-A081-02E9C72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770-63B4-4690-B2FF-AF3DBA5F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940-1A75-4992-B4CC-663192B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4DB-CEF4-4FC6-B49C-CC50AD7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F98-9AED-46D4-9DE8-FD5E712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99-02DD-48C9-8BE1-B71DF8A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CDB16-D27C-40CB-BD96-EF3203270B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