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20436"/>
        <c:axId val="63526792"/>
      </c:barChart>
      <c:catAx>
        <c:axId val="87520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26792"/>
        <c:crosses val="autoZero"/>
        <c:auto val="1"/>
        <c:lblAlgn val="ctr"/>
        <c:lblOffset val="100"/>
        <c:noMultiLvlLbl val="0"/>
      </c:catAx>
      <c:valAx>
        <c:axId val="63526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20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1DF8-576F-420D-82FF-1FF63CF9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A23-2AA5-481F-A748-90952870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49F-BDC4-40D8-91EA-3BE7C8D3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664-DB5E-4153-84AA-E0B646C7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DFF-76BE-4E8C-8115-CB3152C2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0F9-4CC6-46F6-BA9F-E35F8B2F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A4A-B751-4D1F-B4AC-F3470BCE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415-0C50-4503-A012-EE1477A2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0D1-7341-4334-8A8E-C6B5D7C6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0C2-DF3B-4F79-8E3D-8A6BD396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EF4-6FA1-48C0-98C2-54C63EEB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2C7-E9B8-4B0B-9D99-C19AD6F1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5BF12-0DE1-43B5-A1F0-70638DC1FE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