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9083-9E69-47C8-B8AD-DCFED50CC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6597-A403-465D-A1AE-51D2C95DF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71CA-5159-4DC6-AD89-BA0C5A441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63C1-1711-43F6-BC7C-F6CB28722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AC15-4222-4097-A46D-A6DC6EC36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7A34-9971-41F5-AE25-5059CE826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1980-F23E-4564-957F-586C4E21F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4C2F-67E6-4949-B386-DF2BA86A2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925D-4331-4598-8991-F641622F7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C330-58C8-4D75-8600-C57AB4630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4AC3-7A5B-4D65-A5DE-EE952CBCE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1FA3-CD38-49D2-8AC5-3AB5B658E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1B5AD-54F5-4517-845A-39C1D963FA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Symbol, Club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‘Normal’, Play arrow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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MT Sorts, 5 point sta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Wingdings, Smile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8T10:46:03Z</dcterms:created>
  <dc:creator>Michael</dc:creator>
  <dc:description/>
  <dc:language>en-US</dc:language>
  <cp:lastModifiedBy>Michael</cp:lastModifiedBy>
  <dcterms:modified xsi:type="dcterms:W3CDTF">2004-08-18T10:49:19Z</dcterms:modified>
  <cp:revision>2</cp:revision>
  <dc:subject/>
  <dc:title>Slide 1</dc:title>
</cp:coreProperties>
</file>